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C59-8E9C-4B51-8BCA-429AA107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6A9E-9823-45B5-97F1-B26A0BAC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FA7-FEFF-4156-B880-31BF8485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CA5-AD42-4138-B043-AC3387BE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458D-5900-4824-802F-24D72680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8D28-789E-4BC7-A1A0-A5C0F94F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69B0-1158-4052-A9C7-ED793BC1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C7C1-D44E-434F-B561-C7A48408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93DB-528A-474B-A3A5-2D2462A0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B309-C0FD-409A-9970-C6F474C6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2BC2-9E4D-4604-A565-A82CBCE5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E3F-E972-4B30-A5AE-8B81329B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2301-EA80-45A9-ADA3-5CD01A4D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6F4F-BF37-470F-9607-D696F37F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DEC9-D2B3-400B-BA9E-150E81AF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3BB9-7D97-4636-9B42-FE53157C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32A2-848F-46EE-A469-53F4BFF6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5C2B-6C32-461E-B4D6-2A86AC05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337-7468-41AF-A080-B947C362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9E2A-7E44-46F2-9450-C79ADBAB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8B5-D820-4C6B-9963-C208C270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EDE-8E27-4348-B082-5153E5AC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38A-DDEE-4901-B936-2F194CAC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A4E-85A5-43BD-AB3A-B42E8881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B470-310B-4B96-AB87-C127A34CA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2F49-F41A-4741-B97C-31EBDB846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1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Welcome to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Earth Science!</a:t>
            </a:r>
            <a:br>
              <a:rPr sz="76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89548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Mr. Ful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00200" cy="1220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489240" cy="1067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048440" y="1676520"/>
            <a:ext cx="2095560" cy="1047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57200" y="2290680"/>
            <a:ext cx="7848720" cy="4567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-152280" y="3124080"/>
            <a:ext cx="91440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7315200" y="152280"/>
            <a:ext cx="1600200" cy="1220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4038480" y="3809880"/>
            <a:ext cx="3581640" cy="210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457200" y="28954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ease Not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es and Bellwork are usually a hint to you will see on 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es and Bellwork often contain test questions or diagrams that you will most likely come across during 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way to get a good grade in class is to complete note summaries and bellwork!!!!!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Labs and Activiti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s and Activities are worth 20% of your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notes, we will usually spend between 30 and 40 minutes on a 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s or Activities are due either the day they are assigned or the day 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934320" y="45720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take lab safety very seri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one caught goofing around in lab will receive a zero on the assignment for that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one caught abusing school property and lab materials will also receive a zero on the assignment for that da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were absent for a lab, come see about a makeup assig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s should always be written in complete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219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 Write-U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is the purpose of this lab? Or, Why I am doing th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pothes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rediction of what you expect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en (an educated guess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ke sure you always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a hypothesis!!!!!!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teri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kind of equipment or materials will I need to complete the lab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cedure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at 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aken to achieve a desired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s/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kind of data or information did I obt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Questions and Conclu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did I learn? Did I perform the lab correctly? If not, why not? What went wrong? Each lab will have questions. Be sure every question is answered correc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ANSWER IN COMPLETE SENTENCES!!!!!!!!!!!!!!!!!!!!!!!!!!!!!!!!!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9046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7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8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Tests and Quizz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s and Quizzes are worth 50% of your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like your test grade? Well, you have up to 3 retakes to improve your sco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st thing you can do in this class is miss a test or quiz and not make it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up a test or Retake a test you will need to visit: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ttp://quizstar.4teachers.org/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gister for my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ademic Integr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caught cheating, I will take the assignment from you and the work will count as a zero in my grade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ing other peoples work is a form of Plagiarism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257800" y="3514680"/>
            <a:ext cx="2438280" cy="18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vies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n effort to listen and learn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will almost always be questions that accompany the mov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vie will often be followed by a quiz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: tests and quizzes are worth 50% of your grad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Earth Sci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are 4 easy things you will need to do by the end of 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the assignment you’re working on right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er with Quiz star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so you can take online tes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er with Homelink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so you can check your grade onli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ake your 1st quiz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324480" y="4343400"/>
            <a:ext cx="1494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If you are absent…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lass is divided up in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in part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ass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abs or Activ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sts and Quiz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ever absent and need to make up classwork, labs, or tests; please go to my class website: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ttp://wikifuller.wikispaces.com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Classwor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work is worth 20% of your gr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work consists of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rnell notes, Test notes, and Bell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lwork is due every Friday unless otherwise 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day of Bellwork is worth 20 poi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eeks Worth of Bellwork (5 days) is worth 100 poin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lwork can be made up online at my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242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nell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ll Notes are due on the day of th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day of Cornell Notes is worth 50 poi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Unit we will have 3 or 4 days of no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3 days of notes is worth 150 points and 4 days of notes is worth 200 points!!!!!!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69080" y="0"/>
            <a:ext cx="1474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Question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What side do I write the question o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Questions always go on the left side and the answers always go on the right 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1523880"/>
            <a:ext cx="4876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66688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152388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5867280"/>
            <a:ext cx="487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48520" y="23623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/diagrams/draw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5257800"/>
            <a:ext cx="358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26668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goes on the le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nd the answer g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gh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66720" y="2819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wri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60958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205740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1752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9938000">
            <a:off x="1445760" y="2421000"/>
            <a:ext cx="685800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Cornell Note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60"/>
                            </p:stCondLst>
                            <p:childTnLst>
                              <p:par>
                                <p:cTn id="18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6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34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38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22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267080" y="1523880"/>
            <a:ext cx="4876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266688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1320" y="152388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5867280"/>
            <a:ext cx="487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23623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/diagrams/draw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5257800"/>
            <a:ext cx="358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26668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goes on the le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nd the answer g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gh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266720" y="2819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wri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43400" y="60958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4120" y="2743200"/>
            <a:ext cx="2361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20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5486400"/>
            <a:ext cx="2362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25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43400" y="205740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1752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19051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5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21932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Quick writes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are a dail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question worth 5 points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That you answer in 1-2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Sentences. Quickwrit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are designed to g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you thinking!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Cornell Note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42900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Main Section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of you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notes are worth 20 poi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480060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Summaries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are worth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20 points.  Summar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contain diagrams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important inform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which may be on the test!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st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are notes that you can use on the test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ho complete their test notes usually receive an A or B on th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will be passed out 1-2 days before the test and they are to be completed as ho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are due on the day of the test along with Cornell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42:41Z</dcterms:created>
  <dc:creator>jfuller</dc:creator>
  <dc:description/>
  <dc:language>en-US</dc:language>
  <cp:lastModifiedBy>jfuller</cp:lastModifiedBy>
  <dcterms:modified xsi:type="dcterms:W3CDTF">2012-08-13T16:14:12Z</dcterms:modified>
  <cp:revision>11</cp:revision>
  <dc:subject/>
  <dc:title>Slide 1</dc:title>
</cp:coreProperties>
</file>